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BED-90D9-4AB0-A8E8-F9CD0451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1AF-130D-4EE6-8CFD-CE932D8B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719-31FF-44FB-852B-2B9D53BD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435-5D05-4EC1-AF3D-F200C261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FC3-427F-4A03-AD79-605975B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1C7-B4CD-405A-AC46-E06E7DC7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43B-01A4-4AC8-949D-1F547CB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C4F-F8E9-4E0C-90B4-F2FA769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18A-AACD-46AC-B1EF-172C9A7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3F2-D14C-4A13-8184-5BE7F90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670-ABEC-4DA9-B741-152A85E7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964-DAFA-4925-8100-8E1808D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35BC-EEB9-41FC-815D-378BF0571BB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楷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79D-FA83-40F3-AF3E-E5EC194FE6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流行病学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作为公共卫生决策工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ora Or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学博士、公共卫生硕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部地区卫生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色列海法大学 公共卫生学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色列耶斯瑞山谷学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Liora.ore@gmail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B0C-0670-450C-927F-1D753A97C0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imagesCAEXCPNP אפידמיולוגיה.jpg"/>
          <p:cNvPicPr/>
          <p:nvPr/>
        </p:nvPicPr>
        <p:blipFill>
          <a:blip r:embed="rId1"/>
          <a:stretch/>
        </p:blipFill>
        <p:spPr>
          <a:xfrm>
            <a:off x="324000" y="189000"/>
            <a:ext cx="2296800" cy="218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newbookslhsu.files.wordpress.com/2008/10/epidemiology.jpeg?w=279&amp;h=400"/>
          <p:cNvPicPr/>
          <p:nvPr/>
        </p:nvPicPr>
        <p:blipFill>
          <a:blip r:embed="rId2"/>
          <a:stretch/>
        </p:blipFill>
        <p:spPr>
          <a:xfrm>
            <a:off x="7659720" y="4869000"/>
            <a:ext cx="1266840" cy="181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7020000" y="5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截至目前可能的诊断是什么呢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7D1-0D3F-412E-AEF7-FC72697F68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此案例与流行病学有何联系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例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首次被描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9EEA-2868-4A80-A95C-6A3B94D854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032-21D4-4E03-A9E0-816A8E04EE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332000" y="282636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氏肺囊虫肺炎与黏膜念珠菌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存在于既往健康的男性同性恋患者体内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新型获得性细胞免疫机能缺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是流行病学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4A52-B9AD-40D7-BB4F-8E20547252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流行病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是研究特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人群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中疾病健康状况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分布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及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决定因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，并研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防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疾病及促进健康的策略和措施的科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CB3-BDB8-4403-A437-3AA2C9B7B4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imagesCA9G אפידמיולוגיה ובריאות הציבור.jpg"/>
          <p:cNvPicPr/>
          <p:nvPr/>
        </p:nvPicPr>
        <p:blipFill>
          <a:blip r:embed="rId1"/>
          <a:srcRect l="0" t="0" r="0" b="6321"/>
          <a:stretch/>
        </p:blipFill>
        <p:spPr>
          <a:xfrm>
            <a:off x="7308720" y="5229360"/>
            <a:ext cx="1371600" cy="136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agesCAN93QMY אפידמיולוגיה.jpg"/>
          <p:cNvPicPr/>
          <p:nvPr/>
        </p:nvPicPr>
        <p:blipFill>
          <a:blip r:embed="rId2"/>
          <a:stretch/>
        </p:blipFill>
        <p:spPr>
          <a:xfrm>
            <a:off x="179280" y="115920"/>
            <a:ext cx="2095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人 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898989"/>
                </a:solidFill>
                <a:latin typeface="Calibri"/>
              </a:rPr>
              <a:t>人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898989"/>
                </a:solidFill>
                <a:latin typeface="Calibri"/>
                <a:ea typeface="Arial"/>
              </a:rPr>
              <a:t>流行病学这次单词来源于希腊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alibri"/>
              </a:rPr>
              <a:t>Epi-demio-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898989"/>
                </a:solidFill>
                <a:uFillTx/>
                <a:latin typeface="Calibri"/>
              </a:rPr>
              <a:t>(</a:t>
            </a:r>
            <a:r>
              <a:rPr b="1" lang="zh-CN" sz="2500" spc="-1" strike="noStrike" u="sng">
                <a:solidFill>
                  <a:srgbClr val="898989"/>
                </a:solidFill>
                <a:uFillTx/>
                <a:latin typeface="Calibri"/>
              </a:rPr>
              <a:t>医学单词划分：翻译成在人类之上的学科</a:t>
            </a:r>
            <a:r>
              <a:rPr b="1" lang="en-US" sz="2500" spc="-1" strike="noStrike" u="sng">
                <a:solidFill>
                  <a:srgbClr val="898989"/>
                </a:solidFill>
                <a:uFillTx/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t2.gstatic.com/images?q=tbn:ANd9GcQa6jCc570_D_ymdsailD3zisyTd_3EdI3QhLReB6RiHtq9BMfo&amp;t=1"/>
          <p:cNvPicPr/>
          <p:nvPr/>
        </p:nvPicPr>
        <p:blipFill>
          <a:blip r:embed="rId1"/>
          <a:stretch/>
        </p:blipFill>
        <p:spPr>
          <a:xfrm>
            <a:off x="250920" y="333360"/>
            <a:ext cx="2801880" cy="23036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8C86-37D8-45EC-A815-E6B27891F6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907800" y="5157720"/>
            <a:ext cx="174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是人群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出一个人群的例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835280" y="2349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有着共同特征、特点的个体的集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obese women.jpg"/>
          <p:cNvPicPr/>
          <p:nvPr/>
        </p:nvPicPr>
        <p:blipFill>
          <a:blip r:embed="rId1"/>
          <a:stretch/>
        </p:blipFill>
        <p:spPr>
          <a:xfrm>
            <a:off x="7164360" y="450864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Druze.jpe"/>
          <p:cNvPicPr/>
          <p:nvPr/>
        </p:nvPicPr>
        <p:blipFill>
          <a:blip r:embed="rId2"/>
          <a:stretch/>
        </p:blipFill>
        <p:spPr>
          <a:xfrm>
            <a:off x="108000" y="4508640"/>
            <a:ext cx="3098880" cy="210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מעשנים.jpg"/>
          <p:cNvPicPr/>
          <p:nvPr/>
        </p:nvPicPr>
        <p:blipFill>
          <a:blip r:embed="rId3"/>
          <a:stretch/>
        </p:blipFill>
        <p:spPr>
          <a:xfrm>
            <a:off x="3708360" y="4508640"/>
            <a:ext cx="3008520" cy="220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שחקני כדורגל.jpg"/>
          <p:cNvPicPr/>
          <p:nvPr/>
        </p:nvPicPr>
        <p:blipFill>
          <a:blip r:embed="rId4"/>
          <a:stretch/>
        </p:blipFill>
        <p:spPr>
          <a:xfrm>
            <a:off x="7020000" y="189000"/>
            <a:ext cx="189684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theinterpretersfriend.org/indj/maps/israel-map.gif"/>
          <p:cNvPicPr/>
          <p:nvPr/>
        </p:nvPicPr>
        <p:blipFill>
          <a:blip r:embed="rId5"/>
          <a:stretch/>
        </p:blipFill>
        <p:spPr>
          <a:xfrm>
            <a:off x="108000" y="189000"/>
            <a:ext cx="1431720" cy="38923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D65-3CB5-483C-8031-643F7F3518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分  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getimage Hepatitis.gif"/>
          <p:cNvPicPr/>
          <p:nvPr/>
        </p:nvPicPr>
        <p:blipFill>
          <a:blip r:embed="rId1"/>
          <a:stretch/>
        </p:blipFill>
        <p:spPr>
          <a:xfrm>
            <a:off x="5241960" y="272880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4859280" y="2060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乙型肝炎感染的地理区域分布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型肝炎表面抗原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传播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卫生组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Figure_3-19 Distribution of Mental diseases.gif"/>
          <p:cNvPicPr/>
          <p:nvPr/>
        </p:nvPicPr>
        <p:blipFill>
          <a:blip r:embed="rId2"/>
          <a:stretch/>
        </p:blipFill>
        <p:spPr>
          <a:xfrm>
            <a:off x="0" y="0"/>
            <a:ext cx="3772080" cy="347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707px-Mort_svg IMR.png"/>
          <p:cNvPicPr/>
          <p:nvPr/>
        </p:nvPicPr>
        <p:blipFill>
          <a:blip r:embed="rId3"/>
          <a:stretch/>
        </p:blipFill>
        <p:spPr>
          <a:xfrm>
            <a:off x="108000" y="4005360"/>
            <a:ext cx="53863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5148360" y="981000"/>
            <a:ext cx="38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数分布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不同的疾病类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12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D67-00D2-446B-B4F6-843C58392F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407200" y="5243400"/>
            <a:ext cx="3541680" cy="150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为什么我们需要研究疾病的分布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疾病分布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56000" y="34290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与决定因素有关的线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own Arrow 6"/>
          <p:cNvSpPr/>
          <p:nvPr/>
        </p:nvSpPr>
        <p:spPr>
          <a:xfrm>
            <a:off x="4211640" y="206064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CD6-EE88-4F18-BCF1-49CE957F5F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708360" y="5229360"/>
            <a:ext cx="1846440" cy="703440"/>
          </a:xfrm>
          <a:prstGeom prst="rect">
            <a:avLst/>
          </a:prstGeom>
          <a:solidFill>
            <a:srgbClr val="b9cde5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学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1403280" y="1989000"/>
            <a:ext cx="2016360" cy="825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暴露因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ight Arrow 2"/>
          <p:cNvSpPr/>
          <p:nvPr/>
        </p:nvSpPr>
        <p:spPr>
          <a:xfrm>
            <a:off x="3635280" y="2492280"/>
            <a:ext cx="1625760" cy="48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5508720" y="2349360"/>
            <a:ext cx="280836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476360" y="407664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多因素病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疾病包含很多种病因，这些病因常相互联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病因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A78-A46C-445C-92E8-77BA200970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例分析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楷体_GB2312"/>
              </a:rPr>
              <a:t>第一部分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CFAC-2DDB-4F51-8C2B-D29B2AF4F8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暴露因素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在的风险因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流行病学的研究中，潜在的风险因素可呈现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种实际的暴露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氡气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种行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吸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系安全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种个体特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年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别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族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部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094-17D4-42C2-B59D-7EC5D2D1C8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风 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险是指，一种特定的结果将在给定的时间段内发生的概率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围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0%-10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不能举出几个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险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例子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291B-0177-44B6-A30B-01813D6866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风险的实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女性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内患上前列腺癌的风险有多大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高龄老人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内死亡的风险系数有多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患有胰腺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男性患者在五年内的死亡风险有多大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95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D57-0E3E-46C4-877B-0AFCD2A49D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24000" y="471240"/>
            <a:ext cx="44686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风险因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635280" y="1276200"/>
            <a:ext cx="51134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  <a:ea typeface="楷体_GB2312"/>
              </a:rPr>
              <a:t>一种行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  <a:ea typeface="楷体_GB2312"/>
              </a:rPr>
              <a:t>环境暴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  <a:ea typeface="楷体_GB2312"/>
              </a:rPr>
              <a:t>固有的人类特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增加了特定结果发生的概率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被认为是一种病因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重要的是要去“防止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236E-1F41-4CE6-B0F7-0150F426D5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smoking-copd"/>
          <p:cNvPicPr/>
          <p:nvPr/>
        </p:nvPicPr>
        <p:blipFill>
          <a:blip r:embed="rId1"/>
          <a:stretch/>
        </p:blipFill>
        <p:spPr>
          <a:xfrm>
            <a:off x="395280" y="404640"/>
            <a:ext cx="2987640" cy="2232360"/>
          </a:xfrm>
          <a:prstGeom prst="rect">
            <a:avLst/>
          </a:prstGeom>
          <a:ln w="0">
            <a:noFill/>
          </a:ln>
        </p:spPr>
      </p:pic>
      <p:sp>
        <p:nvSpPr>
          <p:cNvPr id="165" name="Down Arrow 15"/>
          <p:cNvSpPr/>
          <p:nvPr/>
        </p:nvSpPr>
        <p:spPr>
          <a:xfrm>
            <a:off x="1633680" y="295596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www.ispub.com/ispub/ijpm/volume_11_number_2_5/image-in-medicine-squamous-cell-granulomas-in-completely-regressed-stage-iiib-lung-cancer-after-chemoradiation-therapy/image-fig2.jpg"/>
          <p:cNvPicPr/>
          <p:nvPr/>
        </p:nvPicPr>
        <p:blipFill>
          <a:blip r:embed="rId2"/>
          <a:stretch/>
        </p:blipFill>
        <p:spPr>
          <a:xfrm>
            <a:off x="395280" y="3903840"/>
            <a:ext cx="2989440" cy="2354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7"/>
          <p:cNvSpPr/>
          <p:nvPr/>
        </p:nvSpPr>
        <p:spPr>
          <a:xfrm>
            <a:off x="395280" y="630072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肺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5941800" y="2973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那些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风险因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2CE-8F5F-4DA4-BD14-169476594B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68360" y="501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我们需要去明确病因呢？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定义风险因素呢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87280" y="1844640"/>
            <a:ext cx="3240360" cy="1008000"/>
          </a:xfrm>
          <a:prstGeom prst="rect">
            <a:avLst/>
          </a:prstGeom>
          <a:solidFill>
            <a:srgbClr val="3366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可修整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427640" y="1700280"/>
            <a:ext cx="4392360" cy="1368360"/>
          </a:xfrm>
          <a:prstGeom prst="rightArrow">
            <a:avLst>
              <a:gd name="adj1" fmla="val 50000"/>
              <a:gd name="adj2" fmla="val 8024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如：行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187280" y="3500280"/>
            <a:ext cx="3240360" cy="1008360"/>
          </a:xfrm>
          <a:prstGeom prst="rect">
            <a:avLst/>
          </a:prstGeom>
          <a:solidFill>
            <a:srgbClr val="3366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不可修整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4427640" y="3213000"/>
            <a:ext cx="4465440" cy="1441440"/>
          </a:xfrm>
          <a:prstGeom prst="rightArrow">
            <a:avLst>
              <a:gd name="adj1" fmla="val 50000"/>
              <a:gd name="adj2" fmla="val 7744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如：性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EC5-0619-4477-AE19-7A4EFCDA57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7560" y="917640"/>
            <a:ext cx="82296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病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风险因素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708280" y="444492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 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own Arrow 5"/>
          <p:cNvSpPr/>
          <p:nvPr/>
        </p:nvSpPr>
        <p:spPr>
          <a:xfrm>
            <a:off x="4363920" y="2852640"/>
            <a:ext cx="432000" cy="1224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7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预防的级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疾病的自然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66F-796D-4C43-9D94-19BE3D6561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2CB2-5659-4154-98EC-2D8597C34C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疾病的自然史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10808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5280" y="3009960"/>
            <a:ext cx="1584360" cy="642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050920" y="3429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19640" y="3009960"/>
            <a:ext cx="208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疾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894360" y="3086280"/>
            <a:ext cx="1781280" cy="6426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结 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5584680" y="3429000"/>
            <a:ext cx="12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971640" y="565164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8101080" y="5435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4211640" y="3733920"/>
            <a:ext cx="1297080" cy="580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的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症状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419640" y="3732120"/>
            <a:ext cx="90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前期的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667F-43C2-44F2-8820-0D404EB4D3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疾病的自然史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10808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95280" y="2793960"/>
            <a:ext cx="1584360" cy="642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2050920" y="3213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419640" y="2793960"/>
            <a:ext cx="208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疾 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6894360" y="2870280"/>
            <a:ext cx="1925640" cy="6426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5584680" y="3213000"/>
            <a:ext cx="12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804000" y="3517920"/>
            <a:ext cx="15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康  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残  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971640" y="543564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8101080" y="5219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2050920" y="27511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_GB2312"/>
              </a:rPr>
              <a:t>病 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5508000" y="2751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_GB2312"/>
              </a:rPr>
              <a:t>预  后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211640" y="3733920"/>
            <a:ext cx="1297080" cy="580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的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症状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419640" y="3732120"/>
            <a:ext cx="90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前期的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4833-BB43-4A4F-84D5-745621B241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523-75C8-4398-8265-F9B34D9164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疾病的自然史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楷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10808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95280" y="2793960"/>
            <a:ext cx="1584360" cy="642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2050920" y="3213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419640" y="2793960"/>
            <a:ext cx="208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疾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894360" y="2870280"/>
            <a:ext cx="1349640" cy="6426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584680" y="3213000"/>
            <a:ext cx="12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971640" y="543564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2050920" y="27511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"/>
              </a:rPr>
              <a:t>  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_GB2312"/>
              </a:rPr>
              <a:t>病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5482800" y="27511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"/>
              </a:rPr>
              <a:t>  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_GB2312"/>
              </a:rPr>
              <a:t>预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2512800" y="42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Calibri"/>
                <a:ea typeface="楷体_GB2312"/>
              </a:rPr>
              <a:t>一级预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0" name="Straight Arrow Connector 22"/>
          <p:cNvCxnSpPr/>
          <p:nvPr/>
        </p:nvCxnSpPr>
        <p:spPr>
          <a:xfrm flipV="1">
            <a:off x="3870000" y="4158720"/>
            <a:ext cx="1080" cy="504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568320" y="471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Calibri"/>
                <a:ea typeface="楷体_GB2312"/>
              </a:rPr>
              <a:t>二级预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9"/>
          <p:cNvSpPr/>
          <p:nvPr/>
        </p:nvSpPr>
        <p:spPr>
          <a:xfrm>
            <a:off x="5684400" y="414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三级预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Straight Arrow Connector 32"/>
          <p:cNvCxnSpPr/>
          <p:nvPr/>
        </p:nvCxnSpPr>
        <p:spPr>
          <a:xfrm flipV="1">
            <a:off x="2663640" y="3414600"/>
            <a:ext cx="1080" cy="687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33"/>
          <p:cNvCxnSpPr/>
          <p:nvPr/>
        </p:nvCxnSpPr>
        <p:spPr>
          <a:xfrm flipV="1">
            <a:off x="6200280" y="3414600"/>
            <a:ext cx="1080" cy="687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34"/>
          <p:cNvSpPr/>
          <p:nvPr/>
        </p:nvSpPr>
        <p:spPr>
          <a:xfrm>
            <a:off x="1731600" y="5568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免    疫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36"/>
          <p:cNvSpPr/>
          <p:nvPr/>
        </p:nvSpPr>
        <p:spPr>
          <a:xfrm>
            <a:off x="3340080" y="55688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bacc6"/>
                </a:solidFill>
                <a:latin typeface="Calibri"/>
                <a:ea typeface="楷体"/>
              </a:rPr>
              <a:t>   </a:t>
            </a:r>
            <a:r>
              <a:rPr b="1" lang="zh-CN" sz="1800" spc="-1" strike="noStrike">
                <a:solidFill>
                  <a:srgbClr val="4bacc6"/>
                </a:solidFill>
                <a:latin typeface="Calibri"/>
                <a:ea typeface="楷体"/>
              </a:rPr>
              <a:t>早期发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  <a:ea typeface="楷体"/>
              </a:rPr>
              <a:t>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  <a:ea typeface="楷体"/>
              </a:rPr>
              <a:t>(</a:t>
            </a:r>
            <a:r>
              <a:rPr b="1" lang="zh-CN" sz="1800" spc="-1" strike="noStrike">
                <a:solidFill>
                  <a:srgbClr val="4bacc6"/>
                </a:solidFill>
                <a:latin typeface="Calibri"/>
                <a:ea typeface="楷体"/>
              </a:rPr>
              <a:t>乳腺疾病 筛查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  <a:ea typeface="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7"/>
          <p:cNvSpPr/>
          <p:nvPr/>
        </p:nvSpPr>
        <p:spPr>
          <a:xfrm>
            <a:off x="5632560" y="558972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治疗药物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风后偏瘫康复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6877080" y="3429000"/>
            <a:ext cx="15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康  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残  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8101080" y="5219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4211640" y="3500280"/>
            <a:ext cx="1297080" cy="580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的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症状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419640" y="3500280"/>
            <a:ext cx="90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床前期的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病人档案信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性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入急诊室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杉矶医疗中心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诊断患者的第一步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01B-094A-4729-89D5-DD0CC28639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的等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Content Placeholder 4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CE06-9DD2-400C-9B4A-56B85F66F0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53737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级预防                 二级预防               三级预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流行病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BD4-46A9-4A52-A7DE-2FD86A4220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276720" y="206064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"/>
              </a:rPr>
              <a:t>分 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52008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病    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3643200" y="5286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"/>
              </a:rPr>
              <a:t>预  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Down Arrow 8"/>
          <p:cNvSpPr/>
          <p:nvPr/>
        </p:nvSpPr>
        <p:spPr>
          <a:xfrm>
            <a:off x="4294080" y="2879640"/>
            <a:ext cx="289080" cy="5223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own Arrow 9"/>
          <p:cNvSpPr/>
          <p:nvPr/>
        </p:nvSpPr>
        <p:spPr>
          <a:xfrm>
            <a:off x="4305240" y="4508640"/>
            <a:ext cx="289080" cy="522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24000" y="26028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小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楷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病例分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楷体_GB2312"/>
              </a:rPr>
              <a:t>第二部分 回顾</a:t>
            </a:r>
            <a:r>
              <a:rPr b="1" lang="zh-CN" sz="3200" spc="-1" strike="noStrike">
                <a:solidFill>
                  <a:srgbClr val="898989"/>
                </a:solidFill>
                <a:latin typeface="楷体_GB2312"/>
              </a:rPr>
              <a:t>艾滋病病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1C0-6F4F-4980-A20A-7BD380ED4C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士兵病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6387-3E18-4A8F-8C89-606820D4EA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285840" y="1928880"/>
            <a:ext cx="8643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新英格兰医学期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版权所属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198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年，马萨诸塞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(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美国州名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医学社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氏肺囊虫肺炎与黏膜念珠菌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在于既往健康的男性同性恋患者体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楷体_GB2312"/>
              </a:rPr>
              <a:t>          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新型获得性细胞免疫机能缺陷的证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8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艾滋病在洛杉矶士兵病例中的特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2060640"/>
          <a:ext cx="8229600" cy="4049640"/>
        </p:xfrm>
        <a:graphic>
          <a:graphicData uri="http://schemas.openxmlformats.org/drawingml/2006/table">
            <a:tbl>
              <a:tblPr/>
              <a:tblGrid>
                <a:gridCol w="1306440"/>
                <a:gridCol w="3311640"/>
                <a:gridCol w="361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个体特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岁之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性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男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既往健康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良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性趋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同性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发生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洛杉矶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城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发生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C45-6AAD-4B75-AFE2-C96A8A7655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F8D-1F93-429F-B8D0-0C54CB27ED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CDC.jpg"/>
          <p:cNvPicPr/>
          <p:nvPr/>
        </p:nvPicPr>
        <p:blipFill>
          <a:blip r:embed="rId1"/>
          <a:stretch/>
        </p:blipFill>
        <p:spPr>
          <a:xfrm>
            <a:off x="2700360" y="765000"/>
            <a:ext cx="3600360" cy="36165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684360" y="4869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疾病预防与控制中心发出正式的请求，向所有国家卫生部门报告此类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艾滋病病例者的特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=7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15D-40F2-4ED5-B378-3FD0EA3CAF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092760" y="1557360"/>
            <a:ext cx="266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性恋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毒者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注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友病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own Arrow 4"/>
          <p:cNvSpPr/>
          <p:nvPr/>
        </p:nvSpPr>
        <p:spPr>
          <a:xfrm>
            <a:off x="4284720" y="3200400"/>
            <a:ext cx="216000" cy="50328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2928960" y="3714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同点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Down Arrow 9"/>
          <p:cNvSpPr/>
          <p:nvPr/>
        </p:nvSpPr>
        <p:spPr>
          <a:xfrm>
            <a:off x="4284720" y="4240080"/>
            <a:ext cx="216000" cy="5050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295280" y="47577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接触其他人血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846440" y="578484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出血的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Down Arrow 11"/>
          <p:cNvSpPr/>
          <p:nvPr/>
        </p:nvSpPr>
        <p:spPr>
          <a:xfrm>
            <a:off x="4308480" y="5300640"/>
            <a:ext cx="216000" cy="50472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哪些专家对攻克此难题感兴趣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生物学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学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行病学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生物学与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学的前景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看疾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D8F7-985F-484B-A93A-743D302EA7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艾滋病的首要建议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71DB-F4B4-4956-9975-0B1B0C57554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p1010487-te Condoms AIDS.jpg"/>
          <p:cNvPicPr/>
          <p:nvPr/>
        </p:nvPicPr>
        <p:blipFill>
          <a:blip r:embed="rId1"/>
          <a:stretch/>
        </p:blipFill>
        <p:spPr>
          <a:xfrm>
            <a:off x="468360" y="1700280"/>
            <a:ext cx="2951280" cy="1861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sCAGUSIQF HIV VIrus.jpg"/>
          <p:cNvPicPr/>
          <p:nvPr/>
        </p:nvPicPr>
        <p:blipFill>
          <a:blip r:embed="rId2"/>
          <a:stretch/>
        </p:blipFill>
        <p:spPr>
          <a:xfrm>
            <a:off x="6516720" y="4365720"/>
            <a:ext cx="1994040" cy="20016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95280" y="4724280"/>
            <a:ext cx="56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套的使用一定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人类免疫缺陷病毒的分子结构被确定之前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4640400" y="227664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保护好你的身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次都使用安全套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套保护你的健康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艾滋病、性病和意外怀孕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行病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2B9-59F4-4986-8706-17C7E4B4F2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3276720" y="206064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3851280" y="357336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3780000" y="5157720"/>
            <a:ext cx="28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 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Down Arrow 8"/>
          <p:cNvSpPr/>
          <p:nvPr/>
        </p:nvSpPr>
        <p:spPr>
          <a:xfrm>
            <a:off x="4294080" y="2879640"/>
            <a:ext cx="289080" cy="5223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Down Arrow 9"/>
          <p:cNvSpPr/>
          <p:nvPr/>
        </p:nvSpPr>
        <p:spPr>
          <a:xfrm>
            <a:off x="4305240" y="4508640"/>
            <a:ext cx="289080" cy="522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结肿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重下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重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中内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能的诊断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诊断的下一步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C64-F522-4A24-B20F-85CF3690C4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934-4D8A-4079-AE4D-8BD838929E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4" descr="000b935c_medium Molecular epidemiology.jpg"/>
          <p:cNvPicPr/>
          <p:nvPr/>
        </p:nvPicPr>
        <p:blipFill>
          <a:blip r:embed="rId1"/>
          <a:stretch/>
        </p:blipFill>
        <p:spPr>
          <a:xfrm>
            <a:off x="3276720" y="1700280"/>
            <a:ext cx="2253960" cy="3382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ro_04ce_300 Clinical epidemiology.jpg"/>
          <p:cNvPicPr/>
          <p:nvPr/>
        </p:nvPicPr>
        <p:blipFill>
          <a:blip r:embed="rId2"/>
          <a:stretch/>
        </p:blipFill>
        <p:spPr>
          <a:xfrm>
            <a:off x="250920" y="333360"/>
            <a:ext cx="2365200" cy="3381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0019424f Genetic epidemiology.jpg"/>
          <p:cNvPicPr/>
          <p:nvPr/>
        </p:nvPicPr>
        <p:blipFill>
          <a:blip r:embed="rId3"/>
          <a:stretch/>
        </p:blipFill>
        <p:spPr>
          <a:xfrm>
            <a:off x="6230880" y="2852640"/>
            <a:ext cx="2378160" cy="3382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5786280" y="50004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的几句话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流行病学的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6355-8EC1-4837-BECD-EC20F5B717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0920" y="1326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行病管理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55280" y="3357720"/>
            <a:ext cx="748836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行病学使用的基本原则</a:t>
            </a:r>
            <a:r>
              <a:rPr b="1" lang="zh-CN" sz="31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是在一系列的环境范围内被应用到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健康服务的管理与利用</a:t>
            </a:r>
            <a:r>
              <a:rPr b="1" lang="zh-CN" sz="31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上</a:t>
            </a:r>
            <a:r>
              <a:rPr b="1" lang="en-US" sz="31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----</a:t>
            </a:r>
            <a:r>
              <a:rPr b="1" lang="zh-CN" sz="31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从医院到一些公共卫生部门</a:t>
            </a:r>
            <a:r>
              <a:rPr b="1" lang="en-US" sz="30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.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he-IL" sz="3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imagesCARAERR2 אפידמיולוגיה ניהולית.jpg"/>
          <p:cNvPicPr/>
          <p:nvPr/>
        </p:nvPicPr>
        <p:blipFill>
          <a:blip r:embed="rId1"/>
          <a:stretch/>
        </p:blipFill>
        <p:spPr>
          <a:xfrm>
            <a:off x="179280" y="260280"/>
            <a:ext cx="1341720" cy="213372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行病学的应用程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人群的健康状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疾病监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死亡率和发病率的风险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预后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价各种治疗方法的疗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筛选与诊断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疾病的自然历史记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价健康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394-0872-45CA-9C93-B02C15739843}" type="slidenum">
              <a:rPr b="0" lang="en-US" sz="1200" spc="-1" strike="noStrike">
                <a:solidFill>
                  <a:srgbClr val="898989"/>
                </a:solidFill>
                <a:latin typeface="楷体_GB2312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楷体_GB2312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202680" y="92160"/>
            <a:ext cx="45504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行病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63D-A1DC-464F-BF7E-D2270B0C9B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3276720" y="206064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3851280" y="357336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3780000" y="5157720"/>
            <a:ext cx="28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 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own Arrow 8"/>
          <p:cNvSpPr/>
          <p:nvPr/>
        </p:nvSpPr>
        <p:spPr>
          <a:xfrm>
            <a:off x="4294080" y="2879640"/>
            <a:ext cx="289080" cy="5223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Down Arrow 9"/>
          <p:cNvSpPr/>
          <p:nvPr/>
        </p:nvSpPr>
        <p:spPr>
          <a:xfrm>
            <a:off x="4305240" y="4508640"/>
            <a:ext cx="289080" cy="522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516-2A97-4666-9862-0A6C5B4951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91788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体格检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.5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出身体功能减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结肿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前可能的诊断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诊断的下一步是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342-CDFC-437F-B457-056CAD1E4D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Physical examination.jpg"/>
          <p:cNvPicPr/>
          <p:nvPr/>
        </p:nvPicPr>
        <p:blipFill>
          <a:blip r:embed="rId1"/>
          <a:stretch/>
        </p:blipFill>
        <p:spPr>
          <a:xfrm>
            <a:off x="250920" y="260280"/>
            <a:ext cx="12254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实验室检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淋巴细胞水平降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同时有罕见感染的证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14C-5952-4FEC-83E9-FD76CEE9AF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白色念珠菌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andida albicans.jpg"/>
          <p:cNvPicPr/>
          <p:nvPr/>
        </p:nvPicPr>
        <p:blipFill>
          <a:blip r:embed="rId1"/>
          <a:stretch/>
        </p:blipFill>
        <p:spPr>
          <a:xfrm>
            <a:off x="1908000" y="2133720"/>
            <a:ext cx="4970520" cy="3743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692360" y="162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627280" y="155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上消化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989440" y="58881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  <a:ea typeface="楷体_GB2312"/>
              </a:rPr>
              <a:t>真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AB8-4985-4C60-9FF9-C97F60334A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细胞巨化病毒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M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MV"/>
          <p:cNvPicPr/>
          <p:nvPr/>
        </p:nvPicPr>
        <p:blipFill>
          <a:blip r:embed="rId1"/>
          <a:stretch/>
        </p:blipFill>
        <p:spPr>
          <a:xfrm>
            <a:off x="1403280" y="1808280"/>
            <a:ext cx="6357960" cy="424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178080" y="60674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疱疹病毒家族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132000" y="1341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泌尿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CF2-822F-4882-BD46-F6851F8C77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2"/>
          <p:cNvSpPr/>
          <p:nvPr/>
        </p:nvSpPr>
        <p:spPr>
          <a:xfrm>
            <a:off x="3108240" y="63817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孢子虫性肺炎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卡氏肺囊虫性肺炎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ile:PCPxray.jpg"/>
          <p:cNvPicPr/>
          <p:nvPr/>
        </p:nvPicPr>
        <p:blipFill>
          <a:blip r:embed="rId1"/>
          <a:stretch/>
        </p:blipFill>
        <p:spPr>
          <a:xfrm>
            <a:off x="5113440" y="1566720"/>
            <a:ext cx="3490920" cy="488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upload.wikimedia.org/wikipedia/commons/thumb/5/59/Pneumocystisjiroveci.jpg/220px-Pneumocystisjiroveci.jpg"/>
          <p:cNvPicPr/>
          <p:nvPr/>
        </p:nvPicPr>
        <p:blipFill>
          <a:blip r:embed="rId2"/>
          <a:stretch/>
        </p:blipFill>
        <p:spPr>
          <a:xfrm>
            <a:off x="468360" y="3814920"/>
            <a:ext cx="371952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upload.wikimedia.org/wikipedia/commons/thumb/6/6e/Pneumocystis.jpg/230px-Pneumocystis.jpg"/>
          <p:cNvPicPr/>
          <p:nvPr/>
        </p:nvPicPr>
        <p:blipFill>
          <a:blip r:embed="rId3"/>
          <a:stretch/>
        </p:blipFill>
        <p:spPr>
          <a:xfrm>
            <a:off x="515880" y="1566720"/>
            <a:ext cx="3672000" cy="2235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07760" y="645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酵母样真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8997-DABC-429F-B01B-F62CE7A47F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楷体"/>
              </a:rPr>
              <a:t>Dr. Liora Ore - China - 2013 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284720" y="1916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9:09:18Z</dcterms:created>
  <dc:creator>LIORA</dc:creator>
  <dc:description/>
  <dc:language>en-US</dc:language>
  <cp:lastModifiedBy>MC SYSTEM</cp:lastModifiedBy>
  <dcterms:modified xsi:type="dcterms:W3CDTF">2013-07-12T07:26:12Z</dcterms:modified>
  <cp:revision>651</cp:revision>
  <dc:subject/>
  <dc:title>מבוא לאפידמיולוגיה</dc:title>
</cp:coreProperties>
</file>