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0739-9FF9-43E0-B5F0-00CA84B27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0920" y="382176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E549-521C-4F0F-963E-2F509BE43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336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430F-7CAB-446E-AC92-925FA356C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756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384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092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756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384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EB1A-5E9C-4DEF-A80A-DE791030A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784872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69D4-B539-465E-AB62-5DD5FA21E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336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0920" y="382176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336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756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3840" y="112500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092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756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3840" y="3821760"/>
            <a:ext cx="259632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AF48-A1B9-4235-B29F-198B067BE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D30-B96A-45A0-9CC5-BA600AD52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00AD-D16D-435B-AEBE-9C824A12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784872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9C95-ED0F-4261-A547-70D3F179E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B1D6-38E3-4EDC-AA1D-C5986298E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3360" y="382176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4CDE-E26E-4FA8-876D-F8DB2BF0A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360" y="1125000"/>
            <a:ext cx="39351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0920" y="3821760"/>
            <a:ext cx="806436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A2AD-DDB4-466E-A519-A54862FFF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956360" y="333360"/>
            <a:ext cx="1042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2400" spc="-1" strike="noStrike">
                <a:solidFill>
                  <a:srgbClr val="ffff00"/>
                </a:solidFill>
                <a:latin typeface="MingLiU"/>
                <a:ea typeface="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ff00"/>
                </a:solidFill>
                <a:latin typeface="MingLiU"/>
                <a:ea typeface="MingLiU"/>
              </a:rPr>
              <a:t>-</a:t>
            </a:r>
            <a:fld id="{0B8BD653-A99C-4D32-A3A7-1FA768B7CF70}" type="slidenum">
              <a:rPr b="1" i="1" lang="de-DE" sz="2400" spc="-1" strike="noStrike">
                <a:solidFill>
                  <a:srgbClr val="ffff00"/>
                </a:solidFill>
                <a:latin typeface="MingLiU"/>
                <a:ea typeface="MingLiU"/>
              </a:rPr>
              <a:t>&lt;number&gt;</a:t>
            </a:fld>
            <a:r>
              <a:rPr b="1" i="1" lang="de-DE" sz="2400" spc="-1" strike="noStrike">
                <a:solidFill>
                  <a:srgbClr val="ffff00"/>
                </a:solidFill>
                <a:latin typeface="MingLiU"/>
                <a:ea typeface="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381720"/>
            <a:ext cx="8785440" cy="0"/>
          </a:xfrm>
          <a:prstGeom prst="line">
            <a:avLst/>
          </a:prstGeom>
          <a:ln w="28440">
            <a:solidFill>
              <a:srgbClr val="264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1125360"/>
            <a:ext cx="8280360" cy="525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052640"/>
            <a:ext cx="8207280" cy="5256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ShockwaveFlash1"/>
          <p:cNvGraphicFramePr/>
          <p:nvPr/>
        </p:nvGraphicFramePr>
        <p:xfrm>
          <a:off x="8317080" y="6381720"/>
          <a:ext cx="82692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81720"/>
                    <a:ext cx="826920" cy="33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17748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47032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4f791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26420a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0851;&#20110;&#20840;&#38754;&#25552;&#39640;&#39640;&#31561;&#32844;&#19994;&#25945;&#32946;&#25945;&#23398;&#36136;&#37327;&#30340;&#33509;&#24178;&#24847;&#35265;.doc" TargetMode="External"/><Relationship Id="rId2" Type="http://schemas.openxmlformats.org/officeDocument/2006/relationships/hyperlink" Target="file:///&#20851;&#20110;&#20840;&#38754;&#25552;&#39640;&#39640;&#31561;&#32844;&#19994;&#25945;&#32946;&#25945;&#23398;&#36136;&#37327;&#30340;&#33509;&#24178;&#24847;&#35265;.doc" TargetMode="External"/><Relationship Id="rId3" Type="http://schemas.openxmlformats.org/officeDocument/2006/relationships/hyperlink" Target="file:///&#20851;&#20110;&#20840;&#38754;&#25552;&#39640;&#39640;&#31561;&#32844;&#19994;&#25945;&#32946;&#25945;&#23398;&#36136;&#37327;&#30340;&#33509;&#24178;&#24847;&#35265;.doc" TargetMode="External"/><Relationship Id="rId4" Type="http://schemas.openxmlformats.org/officeDocument/2006/relationships/hyperlink" Target="file:///&#20851;&#20110;&#20840;&#38754;&#25552;&#39640;&#39640;&#31561;&#32844;&#19994;&#25945;&#32946;&#25945;&#23398;&#36136;&#37327;&#30340;&#33509;&#24178;&#24847;&#35265;.doc" TargetMode="External"/><Relationship Id="rId5" Type="http://schemas.openxmlformats.org/officeDocument/2006/relationships/hyperlink" Target="file:///&#20851;&#20110;&#20840;&#38754;&#25552;&#39640;&#39640;&#31561;&#32844;&#19994;&#25945;&#32946;&#25945;&#23398;&#36136;&#37327;&#30340;&#33509;&#24178;&#24847;&#35265;.doc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&#35780;&#20272;&#24037;&#20316;&#20013;&#19987;&#23478;&#28145;&#24230;&#35775;&#35848;&#20869;&#23481;.doc" TargetMode="External"/><Relationship Id="rId2" Type="http://schemas.openxmlformats.org/officeDocument/2006/relationships/hyperlink" Target="file:///&#35780;&#20272;&#24037;&#20316;&#20013;&#19987;&#23478;&#28145;&#24230;&#35775;&#35848;&#20869;&#23481;.doc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640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人才培养工作评估的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深度访谈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436572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孙  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深入了解访谈的内涵，是准确把握深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谈的基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评估专家在评估现场考察阶段，根据事先在数据采集平台、自评报告以及在现场考察过程中发现问题，针对被评估院校人才培养工作薄弱环节的核心问题，与访谈对象作启发式的交谈与询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F00A-4DDE-4066-A019-3D985463DFEE}" type="slidenum">
              <a:t>10</a:t>
            </a:fld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访谈真实了解高等职业教育的思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全校教职员工中理解与执行的情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被评估院校人才培养工作的实际状况，探究问题成因，共同商讨对策，引导高职院校把注意力集中在内涵建设上，从而推动高职院校人才培养工作和管理模式的改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人才培养质量和办学水平管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6F61-F98E-47C0-B8EE-29D760C4BD82}" type="slidenum">
              <a:t>11</a:t>
            </a:fld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859280" cy="33112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31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521240" cy="3024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14440" y="27075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教授访谈口腔系潘灏副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11240" y="3572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曹建林教授访谈教务处罗晓清处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D90-A9AE-458A-A676-114387D2E84F}" type="slidenum">
              <a:t>12</a:t>
            </a:fld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3573360"/>
            <a:ext cx="3097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曹建林教授访谈学工处陈颢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邵敏副处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776840" cy="318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95640" y="2968560"/>
            <a:ext cx="4875480" cy="3272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219640" y="234144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曹建林教授访谈党办（院办）主任殷海芳、宣传部部长杨晓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D469-46FD-4A14-83CA-3978858546D8}" type="slidenum">
              <a:t>13</a:t>
            </a:fld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充分认识深度访谈的主要特点 是准确把握深度访谈的前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职评估深度访谈的主要特点 概括起来是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专家每一次访谈都有明确、清晰的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访人员范围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角度采集信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专家往往为了全面掌握相关信息，或者对于特别关注的方面或发现未了解透彻或有较大出入的问题等，评估专家可能从多角度采集信息，可能对访谈对象进行多次访谈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412F-7153-4F81-9C0A-F8BD210D4B78}" type="slidenum">
              <a:t>14</a:t>
            </a:fld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究，评估专家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抓住有价值或感兴趣的线索进行追问、深究、探索隐藏在表面陈述中的深刻意义</a:t>
            </a:r>
            <a:r>
              <a:rPr b="1" lang="zh-CN" sz="28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谈到教学内容难以优化，改革后教学效果难以保证这一问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仅仅是问题的表面，进一步追问的是教学方法配套改革，教学条件等问题。深层次探讨的是教学投入，教师培训，改革思路与理念等问题。从这个意义上讲，高职评估深度访谈犹如剥春笋，层层剥落，越剥越接近问题的核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8B73-0E50-4733-8D28-140D135FD8AC}" type="slidenum">
              <a:t>15</a:t>
            </a:fld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专家采用“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”的逻辑体系进行思考和判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由“果”切入，根据状态数据采集平台所提供的真实、足够的信息进行分析判断，发现考察的重点与关键     然后分析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探究成因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作深层次原因的剖析    做出价值判断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决问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深度访谈的结果将对评估（结论）产生直接而重要的影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350028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4005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2811-D23C-48ED-A5A4-67DFF94680DD}" type="slidenum">
              <a:t>16</a:t>
            </a:fld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全面知悉深度访谈的内容范围，是准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深度访谈的钥匙。（后面介绍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扎实开展深度访谈迎评工作，是准确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握深度访谈的关键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3B33-7708-41FA-BEEE-93BFDC892D43}" type="slidenum">
              <a:t>17</a:t>
            </a:fld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0920" y="1480680"/>
            <a:ext cx="80643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以更新观念、理念为引领。 没有新思想、新观念 新理念既不能在深度访谈中与评估专家深入交流，也不能有效开展学校人才培养改革与创新。因此，在开展深度访谈迎评工作中，学校坚持以更新观念为引领，将深度访谈迎评工作定位于解放思想、更新观念，提升理念的一次教育思想观念大讨论活动，充分探究制约学校人才培养改革、建设、发展的因素和对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395B-EFA9-41D2-AC9E-3C15259CB4B2}" type="slidenum">
              <a:t>18</a:t>
            </a:fld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坚持以学习为先导。做到在研究中学，在比较中学，在改革中学，在建设中学，在学习中建设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内容大体分为三类 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2006]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６号文件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高职教育思想，如校企合作，工学结合的人才培养模式、基于工作过程系统化课程开发等高职教育思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3993-6B7A-431E-85A6-B8F6BA0A20DC}" type="slidenum">
              <a:t>19</a:t>
            </a:fld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8920" y="4776840"/>
            <a:ext cx="817560" cy="9874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4941720"/>
            <a:ext cx="5329080" cy="65088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be55d3"/>
              </a:gs>
              <a:gs pos="100000">
                <a:srgbClr val="9f47b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5084640"/>
            <a:ext cx="447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深度访谈的相关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63600" y="50720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3911760"/>
            <a:ext cx="817560" cy="98712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98720" y="4054320"/>
            <a:ext cx="5310000" cy="65088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6fc01e"/>
              </a:gs>
              <a:gs pos="100000">
                <a:srgbClr val="5da1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149720"/>
            <a:ext cx="54104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评估主要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3600" y="42051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051000"/>
            <a:ext cx="817560" cy="9874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98720" y="3193920"/>
            <a:ext cx="5310000" cy="65088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26420a"/>
              </a:gs>
              <a:gs pos="100000">
                <a:srgbClr val="1f370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3357720"/>
            <a:ext cx="2663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评估工作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3600" y="33465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205000"/>
            <a:ext cx="817560" cy="987480"/>
          </a:xfrm>
          <a:prstGeom prst="cube">
            <a:avLst>
              <a:gd name="adj" fmla="val 1706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349360"/>
            <a:ext cx="5329080" cy="650880"/>
          </a:xfrm>
          <a:prstGeom prst="cube">
            <a:avLst>
              <a:gd name="adj" fmla="val 12949"/>
            </a:avLst>
          </a:prstGeom>
          <a:gradFill rotWithShape="0">
            <a:gsLst>
              <a:gs pos="0">
                <a:srgbClr val="4f7913"/>
              </a:gs>
              <a:gs pos="100000">
                <a:srgbClr val="42650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2492280"/>
            <a:ext cx="3384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新评估方案指导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63600" y="2498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幼圆"/>
              </a:rPr>
              <a:t>提      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6B48-333B-4B58-A1BB-B376666D09DC}" type="slidenum">
              <a:t>2</a:t>
            </a:fld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是学校自身层面，如学校的办学指导思想、办学理念、办学定位、建设思路和发展目标、近年来学校专业及课程建设和教育教学现状以及学校改革、建设和发展中的成就、特色，经验和不足等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8EFB-12C1-4A52-86EE-D88143C21F82}" type="slidenum">
              <a:t>20</a:t>
            </a:fld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涵建设为核心。数据平台能全方位展示人才培养工作内涵建设成效，是评价人才培养工作的主要依据。因此，学校要坚持以内涵建设为核心，创新办学体制机制，强化办学特色，深化校企合作，工学结合人才培养模式，全面提高人才培养质量，由此带动双师结构队伍、专业课程、实践教学等的建设与改革，建立健全质量保障体系，提升社会服务能力，并促进改革理念、管理观念与水平的提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5727-7165-49F6-AED5-DAAD5D4F9273}" type="slidenum">
              <a:t>21</a:t>
            </a:fld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六说活动为载体。六说包括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院长说办学。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副院长说分管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层干部说管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业带头人说专业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师说课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说学习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6DA9-DD6F-48E6-99BA-9C7CA8BF08EC}" type="slidenum">
              <a:t>22</a:t>
            </a:fld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六说活动，进一步理清学校办学理念，办学思路，办学定位，办学体制机制与发展目标，进一步理清专业建设、师资队伍建设、课程建设、深化教育教学改革的思路，提高干部的管理能力和教师的教学能力，强化学生学习目的，不断增强学生自觉学习的意识，促进学生全面发展，营造良好的校园学习氛围，从而促进学校提高人才培养质量和提升学校整体办学水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51AC-FD17-4205-9BEC-0C9933E48FBE}" type="slidenum">
              <a:t>23</a:t>
            </a:fld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七、深度访谈的人员范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每个专家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4-6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人，包括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学校领导、人事处长、教务处长、财务处长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学生处长、科教处长、系（部）主任、图书馆长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团委书记、事业发展处长、保卫处长、专业带头人、普通教师（包括：专任教师、专业课教师、实践指导教师、基础课教师、思政课教师、体育教研部主任及教师）、学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2C58-CA74-462D-8753-E172162352B7}" type="slidenum">
              <a:t>24</a:t>
            </a:fld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8064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、专家进行深度访谈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导作用（访谈对象：学校领导、相关部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办学目标与定位，人才培养工作的理念，改革措施及突出效果，学校重大改革及领导的研究成果，下一步工作思路。学校领导班子的事业心和进取心情况，中层干部精神面貌状况，教职员工爱岗敬业状况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了解领导对国家政策的认识水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贯彻国家政策及经营管理学校的能力，对人才培养的重视程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39F1-EC7B-4E6E-88E8-27E0928DD0AB}" type="slidenum">
              <a:t>25</a:t>
            </a:fld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师资队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系领导、职能部门、专任教师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教师的专业素质状况、双师素质教师的培养状况，专业教师的技能水平，教师到企业进行实践锻炼情况，专业教师到企业实践及社会服务情况，兼职老师的教学情况，向教学一线教师倾斜的政策、措施情况，学生对师资的认可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了解师资队伍建设的政策措施及成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F446-6F82-4985-A80D-954B8C57DBEA}" type="slidenum">
              <a:t>26</a:t>
            </a:fld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程建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系领导、教务处、专业带头人、骨干教师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课程在人才培养方案中的作用，教学目标与教学设计、实训项目、主要教学方法与手段，考核方法、教学效果、教学中存在的困难及解决办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了解课程体系与内容改革的思路，课程建设对于学生职业能力和素质培养的针对性，采取的措施、取得的效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F0EE-CC4E-4345-95B4-7B04D715D1B1}" type="slidenum">
              <a:t>27</a:t>
            </a:fld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深度访谈的内容范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905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实践教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系领导、专业带头人、实训课教师、兼职教师、职能部门、学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：实践教学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楷体_GB2312"/>
              </a:rPr>
              <a:t>体系构建及管理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情况，学生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楷体_GB2312"/>
              </a:rPr>
              <a:t>顶岗实习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的落实情况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楷体_GB2312"/>
              </a:rPr>
              <a:t>工学结合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开展情况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楷体_GB2312"/>
              </a:rPr>
              <a:t>双证融合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及双证书获取的质量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楷体_GB2312"/>
              </a:rPr>
              <a:t>校外基地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的运行情况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楷体_GB2312"/>
              </a:rPr>
              <a:t>：了解实践教学建设的思路、措施及成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D0B7-C7C7-495D-B88D-1E0716E23278}" type="slidenum">
              <a:t>28</a:t>
            </a:fld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色专业建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专业带头人、骨干教师学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：为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区或行业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服务、专业（群）建设与改革思路、人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模式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质量监控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措施、课程（含实践课）体系与教学内容、专业教学资源的共建与共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：对比了解特色专业的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优势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、专业人才培养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质量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及社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价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9021-95A0-4C5B-809E-80DD27CE6171}" type="slidenum">
              <a:t>29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33240" y="2000160"/>
            <a:ext cx="5234040" cy="636480"/>
            <a:chOff x="633240" y="2000160"/>
            <a:chExt cx="5234040" cy="636480"/>
          </a:xfrm>
        </p:grpSpPr>
        <p:sp>
          <p:nvSpPr>
            <p:cNvPr id="104" name=""/>
            <p:cNvSpPr/>
            <p:nvPr/>
          </p:nvSpPr>
          <p:spPr>
            <a:xfrm>
              <a:off x="633240" y="2000160"/>
              <a:ext cx="5234040" cy="636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e67"/>
                </a:gs>
                <a:gs pos="100000">
                  <a:srgbClr val="bbe6c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7880" y="2467440"/>
              <a:ext cx="5159160" cy="16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2f094">
                    <a:alpha val="0"/>
                  </a:srgbClr>
                </a:gs>
                <a:gs pos="100000">
                  <a:srgbClr val="90f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7880" y="2013840"/>
              <a:ext cx="5159160" cy="16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32000" y="198900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按照“以服务为宗旨，以就业为导向，走产学结合发展道路”的办学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55640" y="2060640"/>
            <a:ext cx="533520" cy="528480"/>
            <a:chOff x="755640" y="2060640"/>
            <a:chExt cx="533520" cy="528480"/>
          </a:xfrm>
        </p:grpSpPr>
        <p:sp>
          <p:nvSpPr>
            <p:cNvPr id="109" name=""/>
            <p:cNvSpPr/>
            <p:nvPr/>
          </p:nvSpPr>
          <p:spPr>
            <a:xfrm>
              <a:off x="755640" y="2060640"/>
              <a:ext cx="533520" cy="528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1040" y="2064600"/>
              <a:ext cx="515880" cy="511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520" y="2067480"/>
              <a:ext cx="504000" cy="499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2920" y="2072520"/>
              <a:ext cx="479160" cy="4658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1000" y="2085120"/>
              <a:ext cx="425880" cy="378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84360" y="2060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4360" y="2781360"/>
            <a:ext cx="5111640" cy="634680"/>
            <a:chOff x="684360" y="2781360"/>
            <a:chExt cx="5111640" cy="634680"/>
          </a:xfrm>
        </p:grpSpPr>
        <p:sp>
          <p:nvSpPr>
            <p:cNvPr id="116" name=""/>
            <p:cNvSpPr/>
            <p:nvPr/>
          </p:nvSpPr>
          <p:spPr>
            <a:xfrm>
              <a:off x="684360" y="2781360"/>
              <a:ext cx="5111640" cy="634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7920" y="3247200"/>
              <a:ext cx="5038560" cy="16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ed8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920" y="2795040"/>
              <a:ext cx="5038560" cy="16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03280" y="2781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坚持“以评促建、以评促改、以评促管、评建结合、重在建设”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幼圆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字方针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4360" y="2852640"/>
            <a:ext cx="604800" cy="576360"/>
            <a:chOff x="684360" y="2852640"/>
            <a:chExt cx="604800" cy="576360"/>
          </a:xfrm>
        </p:grpSpPr>
        <p:sp>
          <p:nvSpPr>
            <p:cNvPr id="121" name=""/>
            <p:cNvSpPr/>
            <p:nvPr/>
          </p:nvSpPr>
          <p:spPr>
            <a:xfrm>
              <a:off x="684360" y="2852640"/>
              <a:ext cx="604800" cy="576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0480" y="2856960"/>
              <a:ext cx="585000" cy="55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7680" y="2860200"/>
              <a:ext cx="571320" cy="544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4160" y="2865600"/>
              <a:ext cx="543240" cy="507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840" y="2879280"/>
              <a:ext cx="482760" cy="41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900000" y="2852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4360" y="3573360"/>
            <a:ext cx="5111640" cy="718920"/>
            <a:chOff x="684360" y="3573360"/>
            <a:chExt cx="5111640" cy="718920"/>
          </a:xfrm>
        </p:grpSpPr>
        <p:sp>
          <p:nvSpPr>
            <p:cNvPr id="128" name=""/>
            <p:cNvSpPr/>
            <p:nvPr/>
          </p:nvSpPr>
          <p:spPr>
            <a:xfrm>
              <a:off x="684360" y="3573360"/>
              <a:ext cx="51116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82e8"/>
                </a:gs>
                <a:gs pos="100000">
                  <a:srgbClr val="d9d0f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920" y="4100760"/>
              <a:ext cx="5038560" cy="18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d67e1">
                    <a:alpha val="0"/>
                  </a:srgbClr>
                </a:gs>
                <a:gs pos="100000">
                  <a:srgbClr val="9a7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7920" y="3588840"/>
              <a:ext cx="5038560" cy="18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efd"/>
                </a:gs>
                <a:gs pos="100000">
                  <a:srgbClr val="cbd0f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32000" y="36450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促进院校加强内涵建设，深化人才培养模式改革，保证高职的基本教学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640" y="3716280"/>
            <a:ext cx="604800" cy="528840"/>
            <a:chOff x="755640" y="3716280"/>
            <a:chExt cx="604800" cy="528840"/>
          </a:xfrm>
        </p:grpSpPr>
        <p:sp>
          <p:nvSpPr>
            <p:cNvPr id="133" name=""/>
            <p:cNvSpPr/>
            <p:nvPr/>
          </p:nvSpPr>
          <p:spPr>
            <a:xfrm>
              <a:off x="755640" y="3716280"/>
              <a:ext cx="604800" cy="528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1760" y="3720240"/>
              <a:ext cx="585000" cy="512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8960" y="3723120"/>
              <a:ext cx="571320" cy="499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5440" y="3728160"/>
              <a:ext cx="543240" cy="466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7120" y="3740760"/>
              <a:ext cx="482760" cy="379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00000" y="3716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5720" y="1268280"/>
            <a:ext cx="5334120" cy="572760"/>
            <a:chOff x="585720" y="1268280"/>
            <a:chExt cx="5334120" cy="572760"/>
          </a:xfrm>
        </p:grpSpPr>
        <p:sp>
          <p:nvSpPr>
            <p:cNvPr id="140" name=""/>
            <p:cNvSpPr/>
            <p:nvPr/>
          </p:nvSpPr>
          <p:spPr>
            <a:xfrm>
              <a:off x="585720" y="1268280"/>
              <a:ext cx="533412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c924"/>
                </a:gs>
                <a:gs pos="100000">
                  <a:srgbClr val="f6eaa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080" y="1688760"/>
              <a:ext cx="5257800" cy="14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c924">
                    <a:alpha val="0"/>
                  </a:srgbClr>
                </a:gs>
                <a:gs pos="100000">
                  <a:srgbClr val="ebce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1080" y="1280520"/>
              <a:ext cx="5257800" cy="147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ecb5"/>
                </a:gs>
                <a:gs pos="100000">
                  <a:srgbClr val="eac92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332000" y="1413000"/>
            <a:ext cx="320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26420a"/>
                </a:solidFill>
                <a:uFillTx/>
                <a:latin typeface="Arial"/>
                <a:ea typeface="幼圆"/>
                <a:hlinkClick r:id="rId1"/>
              </a:rPr>
              <a:t>教高</a:t>
            </a:r>
            <a:r>
              <a:rPr b="0" lang="en-US" sz="1800" spc="-1" strike="noStrike" u="sng">
                <a:solidFill>
                  <a:srgbClr val="26420a"/>
                </a:solidFill>
                <a:uFillTx/>
                <a:latin typeface="Arial"/>
                <a:ea typeface="幼圆"/>
                <a:hlinkClick r:id="rId2"/>
              </a:rPr>
              <a:t>[2006]16</a:t>
            </a:r>
            <a:r>
              <a:rPr b="0" lang="zh-CN" sz="1800" spc="-1" strike="noStrike" u="sng">
                <a:solidFill>
                  <a:srgbClr val="26420a"/>
                </a:solidFill>
                <a:uFillTx/>
                <a:latin typeface="Arial"/>
                <a:ea typeface="幼圆"/>
                <a:hlinkClick r:id="rId3"/>
              </a:rPr>
              <a:t>号</a:t>
            </a:r>
            <a:r>
              <a:rPr b="0" lang="en-US" sz="1800" spc="-1" strike="noStrike" u="sng">
                <a:solidFill>
                  <a:srgbClr val="26420a"/>
                </a:solidFill>
                <a:uFillTx/>
                <a:latin typeface="Arial"/>
                <a:ea typeface="幼圆"/>
                <a:hlinkClick r:id="rId4"/>
              </a:rPr>
              <a:t>)</a:t>
            </a:r>
            <a:r>
              <a:rPr b="0" lang="zh-CN" sz="1800" spc="-1" strike="noStrike" u="sng">
                <a:solidFill>
                  <a:srgbClr val="26420a"/>
                </a:solidFill>
                <a:uFillTx/>
                <a:latin typeface="Arial"/>
                <a:ea typeface="幼圆"/>
                <a:hlinkClick r:id="rId5"/>
              </a:rPr>
              <a:t>文件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5640" y="1341360"/>
            <a:ext cx="533520" cy="528840"/>
            <a:chOff x="755640" y="1341360"/>
            <a:chExt cx="533520" cy="528840"/>
          </a:xfrm>
        </p:grpSpPr>
        <p:sp>
          <p:nvSpPr>
            <p:cNvPr id="145" name=""/>
            <p:cNvSpPr/>
            <p:nvPr/>
          </p:nvSpPr>
          <p:spPr>
            <a:xfrm>
              <a:off x="755640" y="1341360"/>
              <a:ext cx="533520" cy="528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1040" y="1345320"/>
              <a:ext cx="515880" cy="512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7520" y="1348200"/>
              <a:ext cx="504000" cy="499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2920" y="1353240"/>
              <a:ext cx="479160" cy="4662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1000" y="1365840"/>
              <a:ext cx="425880" cy="379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84360" y="134136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6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幼圆"/>
              </a:rPr>
              <a:t>一、新评估方案指导方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929A-F30D-41E0-A34A-93D034D5D34B}" type="slidenum">
              <a:t>3</a:t>
            </a:fld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8064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学管理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教务处、系领导、教师、学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教学管理规范程度，校系两级教学管理制度的落实情况，人才培养质量的保证机制、主要措施，怎样实施，执行的效果，还存在哪些主要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了解制度建设及运行管理与高职教育规律的吻合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994-3F99-4EAC-8B5A-CFDE7C073027}" type="slidenum">
              <a:t>30</a:t>
            </a:fld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社会评价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访谈对象：职能部门、学生、医院或企业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方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学生就业岗位情况（就业率、专业对口率，工资水平）、社会的认可程度、师生为社会提供技术服务的情况、社会技能培训开展情况、师生获奖情况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访谈目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了解学校招生与就业工作，社会对学校的评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C8D1-C4B9-47B1-8000-2A777903D5B8}" type="slidenum">
              <a:t>31</a:t>
            </a:fld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26420a"/>
                </a:solidFill>
                <a:uFillTx/>
                <a:latin typeface="Arial"/>
                <a:ea typeface="楷体_GB2312"/>
                <a:hlinkClick r:id="rId1"/>
              </a:rPr>
              <a:t>九、专家深度访谈内容（问题）的侧重点</a:t>
            </a:r>
            <a:r>
              <a:rPr b="1" lang="zh-CN" sz="3600" spc="-1" strike="noStrike" u="sng">
                <a:solidFill>
                  <a:srgbClr val="26420a"/>
                </a:solidFill>
                <a:uFillTx/>
                <a:latin typeface="Arial"/>
                <a:ea typeface="楷体_GB2312"/>
                <a:hlinkClick r:id="rId2"/>
              </a:rPr>
              <a:t>（链接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D2B4-9721-4F63-A2B7-611974A07004}" type="slidenum">
              <a:t>32</a:t>
            </a:fld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H="1">
            <a:off x="2726640" y="2744640"/>
            <a:ext cx="1811160" cy="1127160"/>
          </a:xfrm>
          <a:custGeom>
            <a:avLst/>
            <a:gdLst/>
            <a:ahLst/>
            <a:rect l="l" t="t" r="r" b="b"/>
            <a:pathLst>
              <a:path w="1141" h="710">
                <a:moveTo>
                  <a:pt x="1075" y="0"/>
                </a:moveTo>
                <a:lnTo>
                  <a:pt x="0" y="710"/>
                </a:lnTo>
                <a:lnTo>
                  <a:pt x="1141" y="665"/>
                </a:lnTo>
                <a:lnTo>
                  <a:pt x="1075" y="0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760840" y="3849840"/>
            <a:ext cx="1800000" cy="2301840"/>
          </a:xfrm>
          <a:custGeom>
            <a:avLst/>
            <a:gdLst/>
            <a:ahLst/>
            <a:rect l="l" t="t" r="r" b="b"/>
            <a:pathLst>
              <a:path w="1134" h="1450">
                <a:moveTo>
                  <a:pt x="1099" y="1450"/>
                </a:moveTo>
                <a:lnTo>
                  <a:pt x="0" y="0"/>
                </a:lnTo>
                <a:lnTo>
                  <a:pt x="1134" y="764"/>
                </a:lnTo>
                <a:lnTo>
                  <a:pt x="1099" y="1450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48960" y="3830760"/>
            <a:ext cx="1811160" cy="1109520"/>
          </a:xfrm>
          <a:custGeom>
            <a:avLst/>
            <a:gdLst/>
            <a:ahLst/>
            <a:rect l="l" t="t" r="r" b="b"/>
            <a:pathLst>
              <a:path w="1141" h="699">
                <a:moveTo>
                  <a:pt x="1092" y="699"/>
                </a:moveTo>
                <a:lnTo>
                  <a:pt x="0" y="0"/>
                </a:lnTo>
                <a:lnTo>
                  <a:pt x="1141" y="45"/>
                </a:lnTo>
                <a:lnTo>
                  <a:pt x="1092" y="699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6040" y="2709720"/>
            <a:ext cx="2417760" cy="5130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9800" y="274788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89960" y="2784600"/>
            <a:ext cx="2330280" cy="98892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6040" y="3887640"/>
            <a:ext cx="2417760" cy="5112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69800" y="392580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89960" y="3962520"/>
            <a:ext cx="2330280" cy="98892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6040" y="5064120"/>
            <a:ext cx="2417760" cy="51264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9800" y="510228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89960" y="5138640"/>
            <a:ext cx="2330280" cy="98928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83160" y="2744640"/>
            <a:ext cx="1811160" cy="1127160"/>
          </a:xfrm>
          <a:custGeom>
            <a:avLst/>
            <a:gdLst/>
            <a:ahLst/>
            <a:rect l="l" t="t" r="r" b="b"/>
            <a:pathLst>
              <a:path w="1141" h="710">
                <a:moveTo>
                  <a:pt x="1075" y="0"/>
                </a:moveTo>
                <a:lnTo>
                  <a:pt x="0" y="710"/>
                </a:lnTo>
                <a:lnTo>
                  <a:pt x="1141" y="665"/>
                </a:lnTo>
                <a:lnTo>
                  <a:pt x="1075" y="0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60840" y="3849840"/>
            <a:ext cx="1800360" cy="2301840"/>
          </a:xfrm>
          <a:custGeom>
            <a:avLst/>
            <a:gdLst/>
            <a:ahLst/>
            <a:rect l="l" t="t" r="r" b="b"/>
            <a:pathLst>
              <a:path w="1134" h="1450">
                <a:moveTo>
                  <a:pt x="1099" y="1450"/>
                </a:moveTo>
                <a:lnTo>
                  <a:pt x="0" y="0"/>
                </a:lnTo>
                <a:lnTo>
                  <a:pt x="1134" y="764"/>
                </a:lnTo>
                <a:lnTo>
                  <a:pt x="1099" y="1450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60840" y="3830760"/>
            <a:ext cx="1811520" cy="1109520"/>
          </a:xfrm>
          <a:custGeom>
            <a:avLst/>
            <a:gdLst/>
            <a:ahLst/>
            <a:rect l="l" t="t" r="r" b="b"/>
            <a:pathLst>
              <a:path w="1141" h="699">
                <a:moveTo>
                  <a:pt x="1092" y="699"/>
                </a:moveTo>
                <a:lnTo>
                  <a:pt x="0" y="0"/>
                </a:lnTo>
                <a:lnTo>
                  <a:pt x="1141" y="45"/>
                </a:lnTo>
                <a:lnTo>
                  <a:pt x="1092" y="699"/>
                </a:lnTo>
                <a:close/>
              </a:path>
            </a:pathLst>
          </a:custGeom>
          <a:gradFill rotWithShape="0">
            <a:gsLst>
              <a:gs pos="0">
                <a:srgbClr val="00a0c6"/>
              </a:gs>
              <a:gs pos="100000">
                <a:srgbClr val="8ed5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7880" y="2709720"/>
            <a:ext cx="2417760" cy="5130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81640" y="274788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00720" y="2784600"/>
            <a:ext cx="2330640" cy="98892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57880" y="3887640"/>
            <a:ext cx="2417760" cy="5112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81640" y="392580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3962520"/>
            <a:ext cx="2330640" cy="98892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57880" y="5064120"/>
            <a:ext cx="2417760" cy="51264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93b82"/>
              </a:gs>
              <a:gs pos="50000">
                <a:srgbClr val="4694da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81640" y="5102280"/>
            <a:ext cx="2370240" cy="106200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93b82"/>
              </a:gs>
              <a:gs pos="50000">
                <a:srgbClr val="0c4eb0"/>
              </a:gs>
              <a:gs pos="100000">
                <a:srgbClr val="093b8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300720" y="5138640"/>
            <a:ext cx="2330640" cy="989280"/>
          </a:xfrm>
          <a:prstGeom prst="roundRect">
            <a:avLst>
              <a:gd name="adj" fmla="val 7718"/>
            </a:avLst>
          </a:prstGeom>
          <a:gradFill rotWithShape="0">
            <a:gsLst>
              <a:gs pos="0">
                <a:srgbClr val="f7fdff"/>
              </a:gs>
              <a:gs pos="50000">
                <a:srgbClr val="bed9f2"/>
              </a:gs>
              <a:gs pos="100000">
                <a:srgbClr val="f7f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3120" y="2879640"/>
            <a:ext cx="2151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一看“人才培养模式与课程宏观设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3120" y="4051440"/>
            <a:ext cx="21510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二看“课程中微观设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3120" y="5238720"/>
            <a:ext cx="2151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三看“课程微观教学设计与实施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54720" y="2879640"/>
            <a:ext cx="2165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四看“教学团队建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54720" y="4051440"/>
            <a:ext cx="21654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五看“校内教学的环境建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4720" y="5238720"/>
            <a:ext cx="2165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六看“校外实习基地建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1341360"/>
            <a:ext cx="50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细黑"/>
              </a:rPr>
              <a:t>新评估方案与专业剖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635280" y="3284640"/>
            <a:ext cx="2016000" cy="1873080"/>
            <a:chOff x="3635280" y="3284640"/>
            <a:chExt cx="2016000" cy="1873080"/>
          </a:xfrm>
        </p:grpSpPr>
        <p:sp>
          <p:nvSpPr>
            <p:cNvPr id="234" name=""/>
            <p:cNvSpPr/>
            <p:nvPr/>
          </p:nvSpPr>
          <p:spPr>
            <a:xfrm>
              <a:off x="3635280" y="3284640"/>
              <a:ext cx="2014560" cy="1873080"/>
            </a:xfrm>
            <a:prstGeom prst="ellipse">
              <a:avLst/>
            </a:prstGeom>
            <a:gradFill rotWithShape="0">
              <a:gsLst>
                <a:gs pos="0">
                  <a:srgbClr val="03678f"/>
                </a:gs>
                <a:gs pos="100000">
                  <a:srgbClr val="00a0c6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245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78840" y="3323520"/>
              <a:ext cx="1927800" cy="1792080"/>
            </a:xfrm>
            <a:prstGeom prst="ellipse">
              <a:avLst/>
            </a:prstGeom>
            <a:gradFill rotWithShape="0">
              <a:gsLst>
                <a:gs pos="0">
                  <a:srgbClr val="00a0c6"/>
                </a:gs>
                <a:gs pos="100000">
                  <a:srgbClr val="03678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20600" y="3362760"/>
              <a:ext cx="1840680" cy="1710720"/>
            </a:xfrm>
            <a:prstGeom prst="ellipse">
              <a:avLst/>
            </a:prstGeom>
            <a:gradFill rotWithShape="0">
              <a:gsLst>
                <a:gs pos="0">
                  <a:srgbClr val="03678f"/>
                </a:gs>
                <a:gs pos="100000">
                  <a:srgbClr val="00a0c6"/>
                </a:gs>
              </a:gsLst>
              <a:lin ang="5400000"/>
            </a:gradFill>
            <a:ln w="0">
              <a:noFill/>
            </a:ln>
            <a:effectLst>
              <a:outerShdw dist="25560" dir="16200000" blurRad="0" rotWithShape="0">
                <a:srgbClr val="9cdb2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6360" y="3354120"/>
              <a:ext cx="2014920" cy="1741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  <a:ea typeface="幼圆"/>
                </a:rPr>
                <a:t>重在校企合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00"/>
                  </a:solidFill>
                  <a:latin typeface="Arial"/>
                  <a:ea typeface="幼圆"/>
                </a:rPr>
                <a:t>工学结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D30D-ED3A-417E-A876-0BF26DF24B99}" type="slidenum">
              <a:t>33</a:t>
            </a:fld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专业剖析关注的要点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806472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职业教育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市场调查与研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业培养目标和培养规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才培养方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程体系、结构、设置和建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职业能力培养与考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产学结合和校企合作教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师资队伍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训基地建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素质、毕业生就业和社会声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服务情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FD19-674A-4889-BC9E-F009BBA4B89A}" type="slidenum">
              <a:t>34</a:t>
            </a:fld>
          </a:p>
        </p:txBody>
      </p:sp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7812000" y="4292640"/>
            <a:ext cx="1042920" cy="1008000"/>
          </a:xfrm>
          <a:prstGeom prst="wedgeRoundRectCallout">
            <a:avLst>
              <a:gd name="adj1" fmla="val -167810"/>
              <a:gd name="adj2" fmla="val 5435"/>
              <a:gd name="adj3" fmla="val 16667"/>
            </a:avLst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华文仿宋"/>
                <a:ea typeface="华文仿宋"/>
              </a:rPr>
              <a:t>职业资格证书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华文仿宋"/>
                <a:ea typeface="华文仿宋"/>
              </a:rPr>
              <a:t>岗位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4500720" y="3357720"/>
            <a:ext cx="0" cy="28728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4"/>
          <p:cNvSpPr/>
          <p:nvPr/>
        </p:nvSpPr>
        <p:spPr>
          <a:xfrm>
            <a:off x="5065560" y="6238800"/>
            <a:ext cx="514440" cy="209520"/>
          </a:xfrm>
          <a:prstGeom prst="pie">
            <a:avLst/>
          </a:prstGeom>
          <a:noFill/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4192560" y="5932440"/>
            <a:ext cx="432000" cy="287280"/>
          </a:xfrm>
          <a:prstGeom prst="downArrow">
            <a:avLst>
              <a:gd name="adj1" fmla="val 67648"/>
              <a:gd name="adj2" fmla="val 57352"/>
            </a:avLst>
          </a:prstGeom>
          <a:gradFill rotWithShape="0">
            <a:gsLst>
              <a:gs pos="0">
                <a:srgbClr val="e1f1f3"/>
              </a:gs>
              <a:gs pos="100000">
                <a:srgbClr val="6fc01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476360" y="333360"/>
            <a:ext cx="6527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文鼎大标宋简"/>
              </a:rPr>
              <a:t>工学结合教学模式探索的总体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580000" y="6237360"/>
            <a:ext cx="208764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2268360" y="4292640"/>
            <a:ext cx="3529080" cy="1112760"/>
            <a:chOff x="2268360" y="4292640"/>
            <a:chExt cx="3529080" cy="1112760"/>
          </a:xfrm>
        </p:grpSpPr>
        <p:sp>
          <p:nvSpPr>
            <p:cNvPr id="247" name="Line 9"/>
            <p:cNvSpPr/>
            <p:nvPr/>
          </p:nvSpPr>
          <p:spPr>
            <a:xfrm>
              <a:off x="2268360" y="4818960"/>
              <a:ext cx="35290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2268360" y="5405400"/>
              <a:ext cx="35290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2268360" y="4292640"/>
              <a:ext cx="35290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2"/>
          <p:cNvSpPr/>
          <p:nvPr/>
        </p:nvSpPr>
        <p:spPr>
          <a:xfrm>
            <a:off x="2448000" y="1484280"/>
            <a:ext cx="3995640" cy="33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校企合作 共享资源 工学结合 造就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3"/>
          <p:cNvSpPr/>
          <p:nvPr/>
        </p:nvSpPr>
        <p:spPr>
          <a:xfrm>
            <a:off x="2268360" y="4299120"/>
            <a:ext cx="11160" cy="11268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4"/>
          <p:cNvSpPr/>
          <p:nvPr/>
        </p:nvSpPr>
        <p:spPr>
          <a:xfrm>
            <a:off x="5796000" y="4292640"/>
            <a:ext cx="3240" cy="11113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2411280" y="2852640"/>
            <a:ext cx="1081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6"/>
          <p:cNvSpPr/>
          <p:nvPr/>
        </p:nvSpPr>
        <p:spPr>
          <a:xfrm>
            <a:off x="2482920" y="1843200"/>
            <a:ext cx="36734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H="1">
            <a:off x="2482920" y="1916280"/>
            <a:ext cx="36734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6875640" y="2000160"/>
            <a:ext cx="1440" cy="49212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>
            <a:off x="1827360" y="2089080"/>
            <a:ext cx="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1814400" y="3220920"/>
            <a:ext cx="6480" cy="3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>
            <a:off x="4500720" y="1916280"/>
            <a:ext cx="0" cy="43164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2"/>
          <p:cNvSpPr/>
          <p:nvPr/>
        </p:nvSpPr>
        <p:spPr>
          <a:xfrm flipH="1">
            <a:off x="5276880" y="3860640"/>
            <a:ext cx="10238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3"/>
          <p:cNvSpPr/>
          <p:nvPr/>
        </p:nvSpPr>
        <p:spPr>
          <a:xfrm>
            <a:off x="3708360" y="2997360"/>
            <a:ext cx="158292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专业指导委员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1258920" y="1627200"/>
            <a:ext cx="1152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学  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300720" y="161280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企  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971640" y="2347920"/>
            <a:ext cx="14382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教 务 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校企合作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二级教学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 flipH="1">
            <a:off x="6875640" y="3068640"/>
            <a:ext cx="1440" cy="55260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8"/>
          <p:cNvSpPr/>
          <p:nvPr/>
        </p:nvSpPr>
        <p:spPr>
          <a:xfrm>
            <a:off x="2771640" y="3859200"/>
            <a:ext cx="93672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4500720" y="4060800"/>
            <a:ext cx="0" cy="21600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0"/>
          <p:cNvSpPr/>
          <p:nvPr/>
        </p:nvSpPr>
        <p:spPr>
          <a:xfrm>
            <a:off x="4406760" y="5410080"/>
            <a:ext cx="6480" cy="165240"/>
          </a:xfrm>
          <a:prstGeom prst="pie">
            <a:avLst/>
          </a:prstGeom>
          <a:noFill/>
          <a:ln w="22320">
            <a:solidFill>
              <a:srgbClr val="ff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1"/>
          <p:cNvSpPr/>
          <p:nvPr/>
        </p:nvSpPr>
        <p:spPr>
          <a:xfrm>
            <a:off x="4005360" y="5564160"/>
            <a:ext cx="863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新魏"/>
              </a:rPr>
              <a:t>学 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2"/>
          <p:cNvSpPr/>
          <p:nvPr/>
        </p:nvSpPr>
        <p:spPr>
          <a:xfrm flipH="1">
            <a:off x="1807920" y="3933720"/>
            <a:ext cx="27000" cy="155592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3"/>
          <p:cNvSpPr/>
          <p:nvPr/>
        </p:nvSpPr>
        <p:spPr>
          <a:xfrm>
            <a:off x="6889680" y="3914640"/>
            <a:ext cx="0" cy="158436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4"/>
          <p:cNvSpPr/>
          <p:nvPr/>
        </p:nvSpPr>
        <p:spPr>
          <a:xfrm>
            <a:off x="1116000" y="5564160"/>
            <a:ext cx="1584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专任教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5"/>
          <p:cNvSpPr/>
          <p:nvPr/>
        </p:nvSpPr>
        <p:spPr>
          <a:xfrm>
            <a:off x="3529080" y="6203880"/>
            <a:ext cx="1906560" cy="504720"/>
          </a:xfrm>
          <a:prstGeom prst="ellipse">
            <a:avLst/>
          </a:prstGeom>
          <a:gradFill rotWithShape="0">
            <a:gsLst>
              <a:gs pos="0">
                <a:srgbClr val="e3f2f3"/>
              </a:gs>
              <a:gs pos="100000">
                <a:srgbClr val="6fc0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合格高技能人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6"/>
          <p:cNvSpPr/>
          <p:nvPr/>
        </p:nvSpPr>
        <p:spPr>
          <a:xfrm>
            <a:off x="3851280" y="6203880"/>
            <a:ext cx="1225440" cy="504720"/>
          </a:xfrm>
          <a:prstGeom prst="ellipse">
            <a:avLst/>
          </a:prstGeom>
          <a:gradFill rotWithShape="0">
            <a:gsLst>
              <a:gs pos="0">
                <a:srgbClr val="e3f2f3"/>
              </a:gs>
              <a:gs pos="100000">
                <a:srgbClr val="6fc01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合格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7"/>
          <p:cNvGrpSpPr/>
          <p:nvPr/>
        </p:nvGrpSpPr>
        <p:grpSpPr>
          <a:xfrm>
            <a:off x="2050920" y="4292640"/>
            <a:ext cx="3961080" cy="1007640"/>
            <a:chOff x="2050920" y="4292640"/>
            <a:chExt cx="3961080" cy="1007640"/>
          </a:xfrm>
        </p:grpSpPr>
        <p:sp>
          <p:nvSpPr>
            <p:cNvPr id="276" name="Text Box 38"/>
            <p:cNvSpPr/>
            <p:nvPr/>
          </p:nvSpPr>
          <p:spPr>
            <a:xfrm>
              <a:off x="431316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实习实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9"/>
            <p:cNvSpPr/>
            <p:nvPr/>
          </p:nvSpPr>
          <p:spPr>
            <a:xfrm>
              <a:off x="475920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师资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0"/>
            <p:cNvSpPr/>
            <p:nvPr/>
          </p:nvSpPr>
          <p:spPr>
            <a:xfrm>
              <a:off x="251136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教学大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1"/>
            <p:cNvSpPr/>
            <p:nvPr/>
          </p:nvSpPr>
          <p:spPr>
            <a:xfrm>
              <a:off x="205092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教学计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2"/>
            <p:cNvSpPr/>
            <p:nvPr/>
          </p:nvSpPr>
          <p:spPr>
            <a:xfrm>
              <a:off x="385272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教学方法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3"/>
            <p:cNvSpPr/>
            <p:nvPr/>
          </p:nvSpPr>
          <p:spPr>
            <a:xfrm>
              <a:off x="5205240" y="4292640"/>
              <a:ext cx="36072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技术研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4"/>
            <p:cNvSpPr/>
            <p:nvPr/>
          </p:nvSpPr>
          <p:spPr>
            <a:xfrm>
              <a:off x="565164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企业文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5"/>
            <p:cNvSpPr/>
            <p:nvPr/>
          </p:nvSpPr>
          <p:spPr>
            <a:xfrm>
              <a:off x="341964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教材建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6"/>
            <p:cNvSpPr/>
            <p:nvPr/>
          </p:nvSpPr>
          <p:spPr>
            <a:xfrm>
              <a:off x="2971800" y="4292640"/>
              <a:ext cx="360360" cy="1007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10800" bIns="1080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仿宋_GB2312"/>
                  <a:ea typeface="黑体"/>
                </a:rPr>
                <a:t>课程开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47"/>
          <p:cNvSpPr/>
          <p:nvPr/>
        </p:nvSpPr>
        <p:spPr>
          <a:xfrm>
            <a:off x="1027080" y="3557520"/>
            <a:ext cx="1584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专业教研室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6073920" y="4853160"/>
            <a:ext cx="142560" cy="0"/>
          </a:xfrm>
          <a:prstGeom prst="line">
            <a:avLst/>
          </a:prstGeom>
          <a:ln w="22320">
            <a:solidFill>
              <a:srgbClr val="ffff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9"/>
          <p:cNvSpPr/>
          <p:nvPr/>
        </p:nvSpPr>
        <p:spPr>
          <a:xfrm>
            <a:off x="4923000" y="5734080"/>
            <a:ext cx="1360440" cy="11160"/>
          </a:xfrm>
          <a:prstGeom prst="pie">
            <a:avLst/>
          </a:prstGeom>
          <a:noFill/>
          <a:ln w="93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738520" y="5780160"/>
            <a:ext cx="122400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6445080" y="4060800"/>
            <a:ext cx="0" cy="360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 flipV="1">
            <a:off x="7667640" y="3212640"/>
            <a:ext cx="0" cy="3024360"/>
          </a:xfrm>
          <a:prstGeom prst="line">
            <a:avLst/>
          </a:prstGeom>
          <a:ln w="9360">
            <a:solidFill>
              <a:srgbClr val="ff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3"/>
          <p:cNvSpPr/>
          <p:nvPr/>
        </p:nvSpPr>
        <p:spPr>
          <a:xfrm>
            <a:off x="6156360" y="5564160"/>
            <a:ext cx="1368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兼职教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4"/>
          <p:cNvSpPr/>
          <p:nvPr/>
        </p:nvSpPr>
        <p:spPr>
          <a:xfrm>
            <a:off x="3979800" y="5564160"/>
            <a:ext cx="89856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员 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 flipV="1">
            <a:off x="6413400" y="5268600"/>
            <a:ext cx="0" cy="144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56"/>
          <p:cNvSpPr/>
          <p:nvPr/>
        </p:nvSpPr>
        <p:spPr>
          <a:xfrm>
            <a:off x="1979640" y="4313160"/>
            <a:ext cx="4103640" cy="1060560"/>
          </a:xfrm>
          <a:prstGeom prst="flowChartProcess">
            <a:avLst/>
          </a:prstGeom>
          <a:noFill/>
          <a:ln w="1908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57"/>
          <p:cNvSpPr/>
          <p:nvPr/>
        </p:nvSpPr>
        <p:spPr>
          <a:xfrm>
            <a:off x="4400640" y="5403960"/>
            <a:ext cx="2019240" cy="12600"/>
          </a:xfrm>
          <a:prstGeom prst="pi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8"/>
          <p:cNvSpPr/>
          <p:nvPr/>
        </p:nvSpPr>
        <p:spPr>
          <a:xfrm>
            <a:off x="6084720" y="4853160"/>
            <a:ext cx="142920" cy="0"/>
          </a:xfrm>
          <a:prstGeom prst="line">
            <a:avLst/>
          </a:prstGeom>
          <a:ln w="2556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9"/>
          <p:cNvSpPr/>
          <p:nvPr/>
        </p:nvSpPr>
        <p:spPr>
          <a:xfrm>
            <a:off x="3708360" y="2347920"/>
            <a:ext cx="1584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专业设置与优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0"/>
          <p:cNvSpPr/>
          <p:nvPr/>
        </p:nvSpPr>
        <p:spPr>
          <a:xfrm>
            <a:off x="6516720" y="2548080"/>
            <a:ext cx="1452600" cy="52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人力资源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61"/>
          <p:cNvSpPr/>
          <p:nvPr/>
        </p:nvSpPr>
        <p:spPr>
          <a:xfrm>
            <a:off x="3780000" y="3657600"/>
            <a:ext cx="143964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人才培养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2"/>
          <p:cNvSpPr/>
          <p:nvPr/>
        </p:nvSpPr>
        <p:spPr>
          <a:xfrm>
            <a:off x="6084720" y="364320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54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仿宋_GB2312"/>
              </a:rPr>
              <a:t>企业部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3"/>
          <p:cNvSpPr/>
          <p:nvPr/>
        </p:nvSpPr>
        <p:spPr>
          <a:xfrm>
            <a:off x="6267600" y="4367160"/>
            <a:ext cx="341280" cy="9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职业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4"/>
          <p:cNvSpPr/>
          <p:nvPr/>
        </p:nvSpPr>
        <p:spPr>
          <a:xfrm>
            <a:off x="6254640" y="4362480"/>
            <a:ext cx="360360" cy="936720"/>
          </a:xfrm>
          <a:prstGeom prst="rect">
            <a:avLst/>
          </a:prstGeom>
          <a:noFill/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5"/>
          <p:cNvSpPr/>
          <p:nvPr/>
        </p:nvSpPr>
        <p:spPr>
          <a:xfrm>
            <a:off x="6240600" y="4352760"/>
            <a:ext cx="38088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职业培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6"/>
          <p:cNvSpPr/>
          <p:nvPr/>
        </p:nvSpPr>
        <p:spPr>
          <a:xfrm>
            <a:off x="3492360" y="2565360"/>
            <a:ext cx="216000" cy="647640"/>
          </a:xfrm>
          <a:prstGeom prst="pi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67"/>
          <p:cNvSpPr/>
          <p:nvPr/>
        </p:nvSpPr>
        <p:spPr>
          <a:xfrm>
            <a:off x="5292720" y="2565360"/>
            <a:ext cx="142920" cy="647640"/>
          </a:xfrm>
          <a:prstGeom prst="pi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8"/>
          <p:cNvSpPr/>
          <p:nvPr/>
        </p:nvSpPr>
        <p:spPr>
          <a:xfrm>
            <a:off x="5435640" y="2852640"/>
            <a:ext cx="1081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9F4A-E14A-45EE-8CC0-6EAD3A8DBE34}" type="slidenum">
              <a:t>35</a:t>
            </a:fld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48"/>
          <p:cNvSpPr/>
          <p:nvPr/>
        </p:nvSpPr>
        <p:spPr>
          <a:xfrm>
            <a:off x="7380360" y="1557360"/>
            <a:ext cx="1512720" cy="792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6"/>
          <p:cNvSpPr/>
          <p:nvPr/>
        </p:nvSpPr>
        <p:spPr>
          <a:xfrm>
            <a:off x="5796000" y="1557360"/>
            <a:ext cx="1871640" cy="7920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0"/>
          <p:cNvSpPr/>
          <p:nvPr/>
        </p:nvSpPr>
        <p:spPr>
          <a:xfrm>
            <a:off x="395280" y="1557360"/>
            <a:ext cx="1728720" cy="79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4"/>
          <p:cNvSpPr/>
          <p:nvPr/>
        </p:nvSpPr>
        <p:spPr>
          <a:xfrm>
            <a:off x="395280" y="2421000"/>
            <a:ext cx="1297080" cy="34560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进行职业岗位调研，明确职业岗位对人才的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6"/>
          <p:cNvSpPr/>
          <p:nvPr/>
        </p:nvSpPr>
        <p:spPr>
          <a:xfrm>
            <a:off x="5940360" y="2421000"/>
            <a:ext cx="1413000" cy="34560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0"/>
          <p:cNvSpPr/>
          <p:nvPr/>
        </p:nvSpPr>
        <p:spPr>
          <a:xfrm>
            <a:off x="1763640" y="1557360"/>
            <a:ext cx="1728720" cy="79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1"/>
          <p:cNvSpPr/>
          <p:nvPr/>
        </p:nvSpPr>
        <p:spPr>
          <a:xfrm>
            <a:off x="225576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培养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2"/>
          <p:cNvSpPr/>
          <p:nvPr/>
        </p:nvSpPr>
        <p:spPr>
          <a:xfrm>
            <a:off x="3132000" y="1557360"/>
            <a:ext cx="1729080" cy="792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3"/>
          <p:cNvSpPr/>
          <p:nvPr/>
        </p:nvSpPr>
        <p:spPr>
          <a:xfrm>
            <a:off x="369720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目标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4500720" y="1557360"/>
            <a:ext cx="1728720" cy="792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5"/>
          <p:cNvSpPr/>
          <p:nvPr/>
        </p:nvSpPr>
        <p:spPr>
          <a:xfrm>
            <a:off x="506412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设置课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643248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程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9"/>
          <p:cNvSpPr/>
          <p:nvPr/>
        </p:nvSpPr>
        <p:spPr>
          <a:xfrm>
            <a:off x="787248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程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889200" y="17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岗位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5"/>
          <p:cNvSpPr/>
          <p:nvPr/>
        </p:nvSpPr>
        <p:spPr>
          <a:xfrm>
            <a:off x="4500720" y="2421000"/>
            <a:ext cx="1295280" cy="34416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置课程（融入职业资格证书内容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9"/>
          <p:cNvSpPr/>
          <p:nvPr/>
        </p:nvSpPr>
        <p:spPr>
          <a:xfrm>
            <a:off x="6215040" y="3068640"/>
            <a:ext cx="790200" cy="337320"/>
          </a:xfrm>
          <a:prstGeom prst="rect">
            <a:avLst/>
          </a:prstGeom>
          <a:solidFill>
            <a:srgbClr val="e8e8e8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公共平台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0"/>
          <p:cNvSpPr/>
          <p:nvPr/>
        </p:nvSpPr>
        <p:spPr>
          <a:xfrm>
            <a:off x="6012000" y="3763800"/>
            <a:ext cx="1209600" cy="520200"/>
          </a:xfrm>
          <a:prstGeom prst="rect">
            <a:avLst/>
          </a:prstGeom>
          <a:solidFill>
            <a:srgbClr val="e8e8e8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专业群平台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专业基课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2"/>
          <p:cNvSpPr/>
          <p:nvPr/>
        </p:nvSpPr>
        <p:spPr>
          <a:xfrm>
            <a:off x="6008760" y="4640400"/>
            <a:ext cx="1155600" cy="520200"/>
          </a:xfrm>
          <a:prstGeom prst="rect">
            <a:avLst/>
          </a:prstGeom>
          <a:solidFill>
            <a:srgbClr val="e8e8e8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专业课（专业方向课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4"/>
          <p:cNvSpPr/>
          <p:nvPr/>
        </p:nvSpPr>
        <p:spPr>
          <a:xfrm>
            <a:off x="6012000" y="5518080"/>
            <a:ext cx="1209600" cy="337320"/>
          </a:xfrm>
          <a:prstGeom prst="rect">
            <a:avLst/>
          </a:prstGeom>
          <a:solidFill>
            <a:srgbClr val="e8e8e8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选 修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5"/>
          <p:cNvSpPr/>
          <p:nvPr/>
        </p:nvSpPr>
        <p:spPr>
          <a:xfrm>
            <a:off x="7451640" y="2421000"/>
            <a:ext cx="1425600" cy="34416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满足职业岗位要求的双证书课程体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2"/>
          <p:cNvSpPr/>
          <p:nvPr/>
        </p:nvSpPr>
        <p:spPr>
          <a:xfrm>
            <a:off x="3132000" y="2421000"/>
            <a:ext cx="1281240" cy="34560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3"/>
          <p:cNvSpPr/>
          <p:nvPr/>
        </p:nvSpPr>
        <p:spPr>
          <a:xfrm>
            <a:off x="1763640" y="2421000"/>
            <a:ext cx="1295640" cy="3456000"/>
          </a:xfrm>
          <a:prstGeom prst="rect">
            <a:avLst/>
          </a:prstGeom>
          <a:solidFill>
            <a:srgbClr val="b9eef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依据岗位要求确定培养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3"/>
          <p:cNvSpPr/>
          <p:nvPr/>
        </p:nvSpPr>
        <p:spPr>
          <a:xfrm>
            <a:off x="3522600" y="5181480"/>
            <a:ext cx="4856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素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3522600" y="4245120"/>
            <a:ext cx="4856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5"/>
          <p:cNvSpPr/>
          <p:nvPr/>
        </p:nvSpPr>
        <p:spPr>
          <a:xfrm>
            <a:off x="3522600" y="3309840"/>
            <a:ext cx="4856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3"/>
          <p:cNvSpPr/>
          <p:nvPr/>
        </p:nvSpPr>
        <p:spPr>
          <a:xfrm>
            <a:off x="1116000" y="189000"/>
            <a:ext cx="5113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文鼎大标宋简"/>
              </a:rPr>
              <a:t>内涵建设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－－重点专业建设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文鼎大标宋简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4"/>
          <p:cNvSpPr/>
          <p:nvPr/>
        </p:nvSpPr>
        <p:spPr>
          <a:xfrm>
            <a:off x="3456000" y="36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14F5-E68C-47B4-AEB6-5BA76A0694F8}" type="slidenum">
              <a:t>36</a:t>
            </a:fld>
          </a:p>
        </p:txBody>
      </p:sp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4920" y="422280"/>
            <a:ext cx="49849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关于内涵建设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68360" y="2046240"/>
            <a:ext cx="8207280" cy="3165480"/>
          </a:xfrm>
          <a:prstGeom prst="rect">
            <a:avLst/>
          </a:prstGeom>
          <a:solidFill>
            <a:srgbClr val="b9e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人才培养模式，突出“三性”即实践性、开放性、职业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课程建设，体现工学结合深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课程微观教学设计与实施，体现教学方法和组织的水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双师教学团队，体现教师整体职业教育教学能力、素质和水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校内教学的实训基地建设，体现学校的培养高技能人才的条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7bd52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校外实习基地建设，体现校企合作的深度和广度</a:t>
            </a:r>
            <a:r>
              <a:rPr b="1" lang="zh-CN" sz="24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AEDE-D304-4974-A39C-810EEC41193B}" type="slidenum">
              <a:t>37</a:t>
            </a:fld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评估工作程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上报和公布材料。提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提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评报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平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，连同区域社会经济发展“十二五”规划、学校发展规划、特色专业建设规划等在校园网上对社会公布，相关专家阅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评报告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平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B1F7-605A-4459-B6EA-A3053EDE0856}" type="slidenum">
              <a:t>4</a:t>
            </a:fld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35344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家组现场考察。专家组对学校填报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采集平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进行深入分析的基础上进行现场考察，时间建议掌握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为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听取学校自评情况汇报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）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地考察（校园环境、校内实训实验基地等教育教学设施建设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专业剖析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重点特色专业）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说课听课，原则上每位专家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，可以与专业剖析结合进行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）深度访谈。专家根据分工确定访谈对象和访谈内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查阅（调阅）原始资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C6B3-C508-4310-A78B-EC1EBEFF3E7E}" type="slidenum">
              <a:t>5</a:t>
            </a:fld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微软简魏碑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09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场考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主要从四个方面考察学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第一方面：业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业率，各种建设成果（教学名师、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课程、品牌特色专业、示范中心等），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成果奖，规划教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····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第二方面：资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资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学条件，讲内涵建设不是硬件不重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资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资、学校文化、校风学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····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CAE2-622D-4C64-B954-EC18369E3998}" type="slidenum">
              <a:t>6</a:t>
            </a:fld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848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ff"/>
              </a:solidFill>
              <a:latin typeface="Arial"/>
              <a:ea typeface="微软简魏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06436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第三方面：过程与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培养目标的实现需要通过整个培养过程实现，如果你的培养模式、课程体系、教学方法、教学管理与培养高素质技能型人才不适应，人才培养质量就难以保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理主要是要建立科学有效的内部教学质量保障体系。不能是空的，要措施具体、长期坚持、运行有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4ABD-E602-466A-A511-D3AB0B97ABDD}" type="slidenum">
              <a:t>7</a:t>
            </a:fld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35344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420a"/>
                </a:solidFill>
                <a:latin typeface="楷体_GB2312"/>
                <a:ea typeface="楷体_GB2312"/>
              </a:rPr>
              <a:t>第四方面：学习与创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新就是要有自己的东西。首先是领导的学习和创新；教师的创新是主导，教学方法改革是重点；学生的创新能力培养；管理创新要有自己的特色，不能照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EE92-F9F8-4BBA-9E5E-0D07EBB4731F}" type="slidenum">
              <a:t>8</a:t>
            </a:fld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8064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三、什么是专家的深度访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访谈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-depth intervie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一种无结构的、直接的、一对一的访问形式。访问过程中，由掌握</a:t>
            </a:r>
            <a:r>
              <a:rPr b="1" lang="zh-CN" sz="2800" spc="-1" strike="noStrike">
                <a:solidFill>
                  <a:srgbClr val="6fc01e"/>
                </a:solidFill>
                <a:latin typeface="楷体_GB2312"/>
                <a:ea typeface="楷体_GB2312"/>
              </a:rPr>
              <a:t>高级访谈技巧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专家对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访谈对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访问，访谈目的是为了了解信息、发现问题、分析原因、寻找解决问题思路及办法，是最常应用的一种调查方法。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AA7B-BF21-4F87-AFC7-7F621864CE15}" type="slidenum">
              <a:t>9</a:t>
            </a:fld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4:56:43Z</dcterms:created>
  <dc:creator>微软用户</dc:creator>
  <dc:description/>
  <dc:language>en-US</dc:language>
  <cp:lastModifiedBy>User</cp:lastModifiedBy>
  <dcterms:modified xsi:type="dcterms:W3CDTF">2012-08-31T04:18:12Z</dcterms:modified>
  <cp:revision>269</cp:revision>
  <dc:subject/>
  <dc:title>PowerPoint Template</dc:title>
</cp:coreProperties>
</file>